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092A-F4E4-40BE-837A-6782F90B6E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D8C-9990-48F4-BB29-E7F46AFAD4BD}" type="slidenum">
              <a:rPr b="0" lang="fr-FR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60F-9FD1-4379-88A7-D5DA41E354C0}" type="slidenum">
              <a:rPr b="0" lang="fr-FR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D9E-9FD2-48B1-B427-5F0DC3A5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EB2-6FB6-4814-BE31-AA12835F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C0A-0C78-44DD-ACBD-21DDDDDA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42B-D42C-4AA8-AA8F-E59F14F8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BB17-CA01-4776-B1CB-2D29AC1F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4246-2586-4314-BE0C-EE613AD4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3CE7-25D4-4C9E-8141-11E75AA5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A809-3AB1-4DE4-986B-E4A8C570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004E-1CEE-4131-8A4B-6288C702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3242-9983-4082-8C5A-02253459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D585-9585-4D8C-B8B8-3299D6F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E16-9102-4D08-BA0D-EB21BEE1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A33E-C29B-4935-B944-C91F467E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B2A1-ECD5-41C2-9FE3-7C1148BD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572E-AAC3-447D-8FDF-70FA23FF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6AC6-AE60-47A0-98C5-319BA0F3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3371-353A-493B-80ED-CB23ECB1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59A-A6DB-4A0F-9ED6-DA670F01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B53-BC78-4502-BA16-9F5A8813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164-88D6-48D4-9699-C98251C1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404-6CB8-4306-A4EE-92D88753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297-4429-40C0-B6B6-7C332887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8A1-EEAC-46E4-8322-13E716FE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335-00AE-41AD-B74B-0B985F80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037E-C5F3-430A-B397-EBA5DFFB3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E497-37EA-47B5-BFFB-8C8EB1FA2CC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llez, viens! – Level 2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hapitre 5 – Première Étap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Passé Composé en pai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Vous avez grossi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ATTEND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Elle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Elles ont attend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PERD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On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On a perd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NGER DE RÔ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COURIR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Nou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Nous avons cour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METT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Vou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Vous avez mi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SPACES!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 pai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 partenaire est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l’auxiliair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’autre partenaire est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le participe passé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9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COMPREND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T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9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Tu as compri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FAI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ON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On a fait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PLEUVOIR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IL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Il a pl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ÊT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J’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J’ ai dû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voir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t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Tu as v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PREND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ell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Elle a pri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AVOIR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J’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J’ai e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GROSSIR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Vou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0-27T20:09:12Z</dcterms:modified>
  <cp:revision>94</cp:revision>
  <dc:subject/>
  <dc:title>Allez, viens! – Level 2</dc:title>
</cp:coreProperties>
</file>